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AE6B-B789-498B-8224-D7FB60E90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29FD-F566-4A9F-94ED-02F21F54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0A93-B137-46A6-A2FB-EA9DBE33F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5EA3-698C-4F48-BE75-3F0B9F587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4F60-7DC5-44CD-B03D-D0BA5F7D2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E758-9A72-49F2-BC82-1E7E3624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D7FA-B1EC-4F76-95C2-A747C533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F423-6CEE-4365-A7CC-D9AAA14F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3F4E-22FD-4587-9C2C-03ED0F4A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1BB8-E2C7-481D-B902-889A30C4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0B06-2C96-4E01-9AB7-BE6B1AA0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B2E8-C020-4A61-BCBC-FFD6046A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7ACE-3A24-480B-AA10-373C22BE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99C6-E477-45F2-AE1F-6408A808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49E4-A278-46C6-B740-B8DAD4E8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EB80-3160-439A-ABAB-C8CFAA599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CEDE-2522-443D-A35A-55A24EB51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D4A0-B0C4-4B5B-AFA7-611BA534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7F9D-D18C-4DF3-BCE0-D338F3B5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1C87-ADC9-45F8-9A88-8F5BED96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9DE2-B067-49EF-BF69-8118C38F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7534-6A9E-4D10-AF63-A9D80426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1C8C-E69F-47DE-BFBC-5B8D23FD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8051-C310-4ECC-94B5-C9527CD7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5209-BF25-4EE7-A29D-D4640B7A1AFB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2AE9-618F-4490-8086-F1B766171DA7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aeaea"/>
                </a:solidFill>
                <a:latin typeface="Tahoma"/>
              </a:rPr>
              <a:t>MEMPHYS MC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resent stat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71280" y="404280"/>
            <a:ext cx="763884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vent Generator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 algn="just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Tahoma"/>
              </a:rPr>
              <a:t>NUANCE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for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beam,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Atmospheric &amp; Proton Dec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imulation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 algn="just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Version 0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 algn="just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dapted from </a:t>
            </a: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Geant 4 code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used by M. Fechner et al. for T2K-WC-2km. The simulation was x-checked using SK &amp; K2K data. </a:t>
            </a: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Water &amp; PMT &amp; Black sheet optical parameter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 algn="just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urrent version 7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 algn="just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nterface with the </a:t>
            </a: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OpenScientist v16r0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framework (G. Barrand@LAL) provided using </a:t>
            </a: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distribution kit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including </a:t>
            </a: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Geant4 &amp; CLHEP &amp; AIDA-IO implementation to RIO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(also HDF5, XM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 algn="just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3 modes of running in the same framework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 algn="just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active Viewing, Batch processing, AIDA_ROOT analys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1280" y="260280"/>
            <a:ext cx="763884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urrent version 7 (Cont’ed)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vent info from M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Primary + non-Optical photons track inf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Hits: each PM maintain a list of arrival time of optical photons detected (i.e photo-cathod efficienc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uture develop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Code review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to improve the geometry implementation, clean up the patches used to adapt the code from T2K-WC to MEMPHYS use c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mplement the </a:t>
            </a: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electronics simulation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: work in collaboration with B. Genolini (IPNO) in the context of PMm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mplement a </a:t>
            </a: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Data Model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to be able to do “replay” event-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2665440" cy="2322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387440" y="335592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10% de </a:t>
            </a:r>
            <a:r>
              <a:rPr b="1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1440" y="333360"/>
            <a:ext cx="28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2km WC Geome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276720" y="915840"/>
            <a:ext cx="2519280" cy="2295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908160" y="335592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1% de </a:t>
            </a:r>
            <a:r>
              <a:rPr b="1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796000" y="907920"/>
            <a:ext cx="2535120" cy="2332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427440" y="335592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0.1% de </a:t>
            </a:r>
            <a:r>
              <a:rPr b="1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203640" y="3860640"/>
            <a:ext cx="3095640" cy="2733840"/>
            <a:chOff x="3203640" y="3860640"/>
            <a:chExt cx="3095640" cy="2733840"/>
          </a:xfrm>
        </p:grpSpPr>
        <p:pic>
          <p:nvPicPr>
            <p:cNvPr id="121" name="" descr=""/>
            <p:cNvPicPr/>
            <p:nvPr/>
          </p:nvPicPr>
          <p:blipFill>
            <a:blip r:embed="rId4"/>
            <a:stretch/>
          </p:blipFill>
          <p:spPr>
            <a:xfrm>
              <a:off x="3203640" y="3860640"/>
              <a:ext cx="3095640" cy="27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626360" y="6040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89920" y="573264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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Math1Mono"/>
                  <a:ea typeface="Math1Mono"/>
                </a:rPr>
                <a:t>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92080" y="5373720"/>
              <a:ext cx="2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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45320" y="4005360"/>
              <a:ext cx="7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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Math1Mono"/>
                  <a:ea typeface="Math1Mono"/>
                </a:rPr>
                <a:t></a:t>
              </a: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</a:t>
              </a: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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26400" y="6165720"/>
              <a:ext cx="1049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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Math1Mono"/>
                  <a:ea typeface="Math1Mono"/>
                </a:rPr>
                <a:t>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(2GeV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6480000" cy="5048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256360" y="0"/>
            <a:ext cx="3887640" cy="30290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814880" y="2852640"/>
            <a:ext cx="927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0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15720" y="915840"/>
            <a:ext cx="2197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fr-FR" sz="4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fr-FR" sz="3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fr-FR" sz="3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  <a:ea typeface="Arial"/>
              </a:rPr>
              <a:t>→e</a:t>
            </a:r>
            <a:r>
              <a:rPr b="0" lang="fr-FR" sz="3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10520" y="587700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PHYS v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88000" y="3357720"/>
            <a:ext cx="2313000" cy="1465560"/>
          </a:xfrm>
          <a:prstGeom prst="rect">
            <a:avLst/>
          </a:pr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active histogram to identify the e Michel optical photon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7840" y="1860480"/>
            <a:ext cx="30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Only detected op. phor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5400720" cy="3930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156360" y="1844640"/>
            <a:ext cx="2448000" cy="1927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rcRect l="2209" t="0" r="1341" b="0"/>
          <a:stretch/>
        </p:blipFill>
        <p:spPr>
          <a:xfrm>
            <a:off x="6170760" y="3959280"/>
            <a:ext cx="2433600" cy="1774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237800" y="630864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PHYS v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87080" y="692280"/>
            <a:ext cx="5914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fr-FR" sz="4000" spc="-1" strike="noStrike" baseline="-25000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4000" spc="-1" strike="noStrike">
                <a:solidFill>
                  <a:srgbClr val="ffffff"/>
                </a:solidFill>
                <a:latin typeface="Comic Sans MS"/>
              </a:rPr>
              <a:t>atmospheric (1-10GeV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4T12:20:59Z</dcterms:created>
  <dc:creator>J.E Campagne</dc:creator>
  <dc:description/>
  <dc:language>en-US</dc:language>
  <cp:lastModifiedBy>J.E Campagne</cp:lastModifiedBy>
  <dcterms:modified xsi:type="dcterms:W3CDTF">2007-06-19T09:56:53Z</dcterms:modified>
  <cp:revision>6</cp:revision>
  <dc:subject/>
  <dc:title>MEMPHYS MC</dc:title>
</cp:coreProperties>
</file>